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E92-1D9E-402E-A0B3-E2EDA50F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747-78F4-4450-8078-A4E399C1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1ED-8DE8-4F6A-B16A-922DEAE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242-79F5-4BFA-8DD4-B4AE0C69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A6D-BB5B-4B2A-A476-9C0BF98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17D-BC48-40E2-A7EF-379D5E3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615-0556-4E28-8BB7-7AA63373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EC1-96DB-42CC-922C-AD180DA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75A-C1CB-442D-A5AB-8378E804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CD4-3C15-4094-9EA2-AAF58FEF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50D-940C-4266-A52F-2D1B23F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2F8-EC15-4E5F-A99F-81F7EA1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7DAE-B77B-43EA-83C2-E93E5879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404640"/>
          <a:ext cx="8424720" cy="638208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4720"/>
                <a:gridCol w="1403640"/>
                <a:gridCol w="1404720"/>
                <a:gridCol w="1403280"/>
              </a:tblGrid>
              <a:tr h="125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uj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oí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n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53964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3429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76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700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924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37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589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1484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476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4130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1700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2924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566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404640"/>
          <a:ext cx="8424720" cy="638208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4720"/>
                <a:gridCol w="1403640"/>
                <a:gridCol w="1404720"/>
                <a:gridCol w="1403280"/>
              </a:tblGrid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uj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oí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n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964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3429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76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700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924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437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589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484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476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4130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1700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1640" y="2924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566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-2-4-10-1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-3-8-9-1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21:00:09Z</dcterms:created>
  <dc:creator>Helen</dc:creator>
  <dc:description/>
  <dc:language>en-US</dc:language>
  <cp:lastModifiedBy>Katy Oliver</cp:lastModifiedBy>
  <dcterms:modified xsi:type="dcterms:W3CDTF">2012-01-25T14:29:26Z</dcterms:modified>
  <cp:revision>4</cp:revision>
  <dc:subject/>
  <dc:title>Slide 1</dc:title>
</cp:coreProperties>
</file>